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C1F8-A2C2-4622-AC9C-BE3607728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4ACB-3E20-4C38-ABF2-F1357310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8FF68-3FBA-4A41-9FB4-5730AF226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EA1E-77F6-4650-A123-BB353900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4121-1E69-457A-B586-D1367484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1549-996A-4786-9C28-6DBC94B48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AAACB-A2E4-4168-BD39-372C36ED8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5721D-105D-47AC-930B-47B2DE90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A8D79-3811-4375-BFE5-DFD56E7B4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9629-686C-4C88-AD1E-A0665D7B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C3AD-6ADE-4A48-8B65-09811029D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88B2-A792-4A45-B9F1-FFB962C12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818C-18A4-441A-8158-7A98AA774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p:cNvSpPr/>
          <p:nvPr/>
        </p:nvSpPr>
        <p:spPr>
          <a:xfrm rot="558000">
            <a:off x="2514240" y="1676520"/>
            <a:ext cx="3657600" cy="2819160"/>
          </a:xfrm>
          <a:custGeom>
            <a:avLst/>
            <a:gdLst>
              <a:gd name="textAreaLeft" fmla="*/ 1350360 w 3657600"/>
              <a:gd name="textAreaRight" fmla="*/ 3545280 w 3657600"/>
              <a:gd name="textAreaTop" fmla="*/ 120240 h 2819160"/>
              <a:gd name="textAreaBottom" fmla="*/ 698760 h 281916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custGeom>
                  <a:avLst/>
                  <a:gdLst>
                    <a:gd name="textAreaLeft" fmla="*/ 0 w 983520"/>
                    <a:gd name="textAreaRight" fmla="*/ 983520 w 983520"/>
                    <a:gd name="textAreaTop" fmla="*/ 0 h 1158120"/>
                    <a:gd name="textAreaBottom" fmla="*/ 414000 h 115812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custGeom>
                <a:avLst/>
                <a:gdLst>
                  <a:gd name="textAreaLeft" fmla="*/ 0 w 848880"/>
                  <a:gd name="textAreaRight" fmla="*/ 849240 w 848880"/>
                  <a:gd name="textAreaTop" fmla="*/ -360 h 703080"/>
                  <a:gd name="textAreaBottom" fmla="*/ 250920 h 70308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custGeom>
            <a:avLst/>
            <a:gdLst>
              <a:gd name="textAreaLeft" fmla="*/ 0 w 1117440"/>
              <a:gd name="textAreaRight" fmla="*/ 1117440 w 111744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custGeom>
            <a:avLst/>
            <a:gdLst>
              <a:gd name="textAreaLeft" fmla="*/ 0 w 1117800"/>
              <a:gd name="textAreaRight" fmla="*/ 1117800 w 111780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custGeom>
            <a:avLst/>
            <a:gdLst>
              <a:gd name="textAreaLeft" fmla="*/ 489960 w 1326960"/>
              <a:gd name="textAreaRight" fmla="*/ 1286280 w 1326960"/>
              <a:gd name="textAreaTop" fmla="*/ 44640 h 1047600"/>
              <a:gd name="textAreaBottom" fmla="*/ 259560 h 104760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lkeeler</cp:lastModifiedBy>
  <dcterms:modified xsi:type="dcterms:W3CDTF">2011-01-10T18:23:28Z</dcterms:modified>
  <cp:revision>51</cp:revision>
  <dc:subject/>
  <dc:title>The Atoms Family</dc:title>
</cp:coreProperties>
</file>